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B78-8246-4C23-804F-2751C2E1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29B-4ED8-4097-A02F-B49235FB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525-82C2-48D7-9FBB-7826111E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F01-15B2-4C0C-80CE-38A0B9D7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4CC-1A53-4D0E-86EF-667FC2C6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54C-6486-45FC-9BEE-19647B61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8BF-46C3-492A-B9ED-67F144C5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9B7-EF90-419A-93A6-E07CF1AF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2C9-8578-4C3F-8A09-3C260630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C47-35F2-479E-9D20-EF8B5342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8D0-BEB3-4F9B-9DDA-448406BC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121-75F5-4145-8C44-6612BADB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72ED-53C0-4738-85D1-612A7632874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-360" y="0"/>
            <a:ext cx="9220680" cy="6858000"/>
            <a:chOff x="-360" y="0"/>
            <a:chExt cx="9220680" cy="6858000"/>
          </a:xfrm>
        </p:grpSpPr>
        <p:sp>
          <p:nvSpPr>
            <p:cNvPr id="42" name="AutoShape 2"/>
            <p:cNvSpPr/>
            <p:nvPr/>
          </p:nvSpPr>
          <p:spPr>
            <a:xfrm rot="5400000">
              <a:off x="-571680" y="571320"/>
              <a:ext cx="2209680" cy="106668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n-U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984240" y="90360"/>
              <a:ext cx="686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Los seres viv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Picture 6" descr="Logo anaya"/>
            <p:cNvPicPr/>
            <p:nvPr/>
          </p:nvPicPr>
          <p:blipFill>
            <a:blip r:embed="rId1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1828800" y="2666880"/>
              <a:ext cx="569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200"/>
                  </a:solidFill>
                  <a:latin typeface="Arial"/>
                  <a:ea typeface="Osaka"/>
                </a:rPr>
                <a:t>RECORDAMOS QUÉ ES</a:t>
              </a:r>
              <a:br>
                <a:rPr sz="2800"/>
              </a:br>
              <a:r>
                <a:rPr b="1" lang="en-US" sz="2800" spc="-1" strike="noStrike">
                  <a:solidFill>
                    <a:srgbClr val="008200"/>
                  </a:solidFill>
                  <a:latin typeface="Arial"/>
                  <a:ea typeface="Osaka"/>
                </a:rPr>
                <a:t>UN COMPUESTO QUÍ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C:\Users\Invitado\Desktop\2CN_01 para adriano\2CN_01_RECURSOS DIGITALES\moléculas\agua.jpg"/>
          <p:cNvPicPr/>
          <p:nvPr/>
        </p:nvPicPr>
        <p:blipFill>
          <a:blip r:embed="rId1"/>
          <a:stretch/>
        </p:blipFill>
        <p:spPr>
          <a:xfrm>
            <a:off x="6662880" y="3541680"/>
            <a:ext cx="1438200" cy="12002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-360" y="0"/>
            <a:ext cx="9220680" cy="6858000"/>
            <a:chOff x="-360" y="0"/>
            <a:chExt cx="9220680" cy="6858000"/>
          </a:xfrm>
        </p:grpSpPr>
        <p:sp>
          <p:nvSpPr>
            <p:cNvPr id="50" name="AutoShape 3"/>
            <p:cNvSpPr/>
            <p:nvPr/>
          </p:nvSpPr>
          <p:spPr>
            <a:xfrm rot="5400000">
              <a:off x="-571680" y="571320"/>
              <a:ext cx="2209680" cy="106668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n-U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984240" y="90360"/>
              <a:ext cx="686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Recordamos qué es</a:t>
              </a:r>
              <a:br>
                <a:rPr sz="2800"/>
              </a:br>
              <a:r>
                <a:rPr b="1" lang="en-U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un compuesto quí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6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7" descr="Logo anaya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37"/>
          <p:cNvSpPr/>
          <p:nvPr/>
        </p:nvSpPr>
        <p:spPr>
          <a:xfrm>
            <a:off x="684360" y="134136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4"/>
          <p:cNvSpPr/>
          <p:nvPr/>
        </p:nvSpPr>
        <p:spPr>
          <a:xfrm>
            <a:off x="250920" y="1844640"/>
            <a:ext cx="741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seres vivos están formados por materia, es decir, por átomos y molécu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2"/>
          <p:cNvSpPr/>
          <p:nvPr/>
        </p:nvSpPr>
        <p:spPr>
          <a:xfrm>
            <a:off x="250920" y="2743200"/>
            <a:ext cx="5769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átom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unidad de materi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átomos son partículas indivis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1"/>
          <p:cNvSpPr/>
          <p:nvPr/>
        </p:nvSpPr>
        <p:spPr>
          <a:xfrm>
            <a:off x="250920" y="3753000"/>
            <a:ext cx="56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molécu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 agregado de, al menos, dos átomos del mismo o de diferentes ele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2"/>
          <p:cNvSpPr/>
          <p:nvPr/>
        </p:nvSpPr>
        <p:spPr>
          <a:xfrm>
            <a:off x="250920" y="5013360"/>
            <a:ext cx="5769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moléculas, los átomos están unidos entre sí por unas fuerzas denominadas</a:t>
            </a:r>
            <a:br>
              <a:rPr sz="2000"/>
            </a:br>
            <a:r>
              <a:rPr b="0" lang="es-ES" sz="2000" spc="-1" strike="noStrike">
                <a:solidFill>
                  <a:srgbClr val="009900"/>
                </a:solidFill>
                <a:latin typeface="Arial"/>
              </a:rPr>
              <a:t>enlaces quím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0"/>
          <p:cNvSpPr/>
          <p:nvPr/>
        </p:nvSpPr>
        <p:spPr>
          <a:xfrm>
            <a:off x="6172200" y="30481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Át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3"/>
          <p:cNvSpPr/>
          <p:nvPr/>
        </p:nvSpPr>
        <p:spPr>
          <a:xfrm>
            <a:off x="7667640" y="2852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87"/>
          <p:cNvSpPr/>
          <p:nvPr/>
        </p:nvSpPr>
        <p:spPr>
          <a:xfrm>
            <a:off x="6588000" y="3355920"/>
            <a:ext cx="720720" cy="57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0"/>
          <p:cNvSpPr/>
          <p:nvPr/>
        </p:nvSpPr>
        <p:spPr>
          <a:xfrm>
            <a:off x="6948360" y="5084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lé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93"/>
          <p:cNvSpPr/>
          <p:nvPr/>
        </p:nvSpPr>
        <p:spPr>
          <a:xfrm flipH="1">
            <a:off x="7667280" y="321300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94"/>
          <p:cNvSpPr/>
          <p:nvPr/>
        </p:nvSpPr>
        <p:spPr>
          <a:xfrm rot="5400000">
            <a:off x="7199640" y="4112280"/>
            <a:ext cx="289080" cy="1513080"/>
          </a:xfrm>
          <a:custGeom>
            <a:avLst/>
            <a:gdLst>
              <a:gd name="textAreaLeft" fmla="*/ 0 w 289080"/>
              <a:gd name="textAreaRight" fmla="*/ 104400 w 2890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4" descr="C:\Users\Invitado\Desktop\2CN_01 para adriano\2CN_01_RECURSOS DIGITALES\moléculas\JPEG\agua.jpg"/>
          <p:cNvPicPr/>
          <p:nvPr/>
        </p:nvPicPr>
        <p:blipFill>
          <a:blip r:embed="rId1"/>
          <a:stretch/>
        </p:blipFill>
        <p:spPr>
          <a:xfrm>
            <a:off x="5076720" y="3789360"/>
            <a:ext cx="1438560" cy="12002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9"/>
          <p:cNvGrpSpPr/>
          <p:nvPr/>
        </p:nvGrpSpPr>
        <p:grpSpPr>
          <a:xfrm>
            <a:off x="-360" y="0"/>
            <a:ext cx="9220680" cy="6858000"/>
            <a:chOff x="-360" y="0"/>
            <a:chExt cx="9220680" cy="6858000"/>
          </a:xfrm>
        </p:grpSpPr>
        <p:sp>
          <p:nvSpPr>
            <p:cNvPr id="68" name="AutoShape 3"/>
            <p:cNvSpPr/>
            <p:nvPr/>
          </p:nvSpPr>
          <p:spPr>
            <a:xfrm rot="5400000">
              <a:off x="-571680" y="571320"/>
              <a:ext cx="2209680" cy="1066680"/>
            </a:xfrm>
            <a:prstGeom prst="rtTriangl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"/>
            <p:cNvSpPr/>
            <p:nvPr/>
          </p:nvSpPr>
          <p:spPr>
            <a:xfrm>
              <a:off x="0" y="0"/>
              <a:ext cx="91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Osaka"/>
                </a:rPr>
                <a:t>UNIDAD</a:t>
              </a:r>
              <a:br>
                <a:rPr sz="1200"/>
              </a:br>
              <a:r>
                <a:rPr b="1" lang="en-US" sz="4800" spc="-1" strike="noStrike">
                  <a:solidFill>
                    <a:srgbClr val="ffffff"/>
                  </a:solidFill>
                  <a:latin typeface="Arial"/>
                  <a:ea typeface="Osaka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984240" y="90360"/>
              <a:ext cx="686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Recordamos qué es</a:t>
              </a:r>
              <a:br>
                <a:rPr sz="2800"/>
              </a:br>
              <a:r>
                <a:rPr b="1" lang="en-US" sz="2800" spc="-1" strike="noStrike">
                  <a:solidFill>
                    <a:srgbClr val="333399"/>
                  </a:solidFill>
                  <a:latin typeface="Arial"/>
                  <a:ea typeface="Osaka"/>
                </a:rPr>
                <a:t>un compuesto quí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76320" y="6400800"/>
              <a:ext cx="65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790b"/>
                  </a:solidFill>
                  <a:latin typeface="Arial"/>
                  <a:ea typeface="Osaka"/>
                </a:rPr>
                <a:t>Ciencias de la Naturaleza 2.º E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7" descr="Logo anaya"/>
            <p:cNvPicPr/>
            <p:nvPr/>
          </p:nvPicPr>
          <p:blipFill>
            <a:blip r:embed="rId2"/>
            <a:stretch/>
          </p:blipFill>
          <p:spPr>
            <a:xfrm>
              <a:off x="7507440" y="6278400"/>
              <a:ext cx="1712880" cy="5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ext Box 2"/>
          <p:cNvSpPr/>
          <p:nvPr/>
        </p:nvSpPr>
        <p:spPr>
          <a:xfrm>
            <a:off x="539640" y="1844640"/>
            <a:ext cx="4824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elem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 tipo de sustancia pura que no puede descomponerse en otras más simpl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ejemplo es el carbo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39640" y="3716280"/>
            <a:ext cx="4248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compues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í puede descomponerse en sustancias más sencillas. Un ejemplo de compuesto es el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732720" y="191628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átomo de carbono es indivi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9"/>
          <p:cNvGrpSpPr/>
          <p:nvPr/>
        </p:nvGrpSpPr>
        <p:grpSpPr>
          <a:xfrm>
            <a:off x="6372360" y="3789000"/>
            <a:ext cx="863640" cy="935280"/>
            <a:chOff x="6372360" y="3789000"/>
            <a:chExt cx="863640" cy="935280"/>
          </a:xfrm>
        </p:grpSpPr>
        <p:sp>
          <p:nvSpPr>
            <p:cNvPr id="77" name="Line 15"/>
            <p:cNvSpPr/>
            <p:nvPr/>
          </p:nvSpPr>
          <p:spPr>
            <a:xfrm flipV="1">
              <a:off x="6372360" y="3789000"/>
              <a:ext cx="7920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>
              <a:off x="6372360" y="4221000"/>
              <a:ext cx="86364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5219640" y="530064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olécula de agua puede dividirse en átomos de hidrógeno y oxíg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24 Elipse"/>
          <p:cNvGrpSpPr/>
          <p:nvPr/>
        </p:nvGrpSpPr>
        <p:grpSpPr>
          <a:xfrm>
            <a:off x="7364520" y="4419720"/>
            <a:ext cx="603000" cy="603000"/>
            <a:chOff x="7364520" y="4419720"/>
            <a:chExt cx="603000" cy="603000"/>
          </a:xfrm>
        </p:grpSpPr>
        <p:pic>
          <p:nvPicPr>
            <p:cNvPr id="81" name="24 Elipse" descr=""/>
            <p:cNvPicPr/>
            <p:nvPr/>
          </p:nvPicPr>
          <p:blipFill>
            <a:blip r:embed="rId3"/>
            <a:stretch/>
          </p:blipFill>
          <p:spPr>
            <a:xfrm>
              <a:off x="7364520" y="4419720"/>
              <a:ext cx="60300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464600" y="4521240"/>
              <a:ext cx="4078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25 Elipse"/>
          <p:cNvGrpSpPr/>
          <p:nvPr/>
        </p:nvGrpSpPr>
        <p:grpSpPr>
          <a:xfrm>
            <a:off x="7364520" y="3481560"/>
            <a:ext cx="463320" cy="461880"/>
            <a:chOff x="7364520" y="3481560"/>
            <a:chExt cx="463320" cy="461880"/>
          </a:xfrm>
        </p:grpSpPr>
        <p:pic>
          <p:nvPicPr>
            <p:cNvPr id="84" name="25 Elipse" descr=""/>
            <p:cNvPicPr/>
            <p:nvPr/>
          </p:nvPicPr>
          <p:blipFill>
            <a:blip r:embed="rId4"/>
            <a:stretch/>
          </p:blipFill>
          <p:spPr>
            <a:xfrm>
              <a:off x="7364520" y="3481560"/>
              <a:ext cx="46332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443720" y="3564000"/>
              <a:ext cx="3049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26 Elipse"/>
          <p:cNvGrpSpPr/>
          <p:nvPr/>
        </p:nvGrpSpPr>
        <p:grpSpPr>
          <a:xfrm>
            <a:off x="5851440" y="2041560"/>
            <a:ext cx="604800" cy="609480"/>
            <a:chOff x="5851440" y="2041560"/>
            <a:chExt cx="604800" cy="609480"/>
          </a:xfrm>
        </p:grpSpPr>
        <p:pic>
          <p:nvPicPr>
            <p:cNvPr id="87" name="26 Elipse" descr=""/>
            <p:cNvPicPr/>
            <p:nvPr/>
          </p:nvPicPr>
          <p:blipFill>
            <a:blip r:embed="rId5"/>
            <a:stretch/>
          </p:blipFill>
          <p:spPr>
            <a:xfrm>
              <a:off x="5851440" y="2041560"/>
              <a:ext cx="604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952960" y="2144880"/>
              <a:ext cx="406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27 CuadroTexto"/>
          <p:cNvSpPr/>
          <p:nvPr/>
        </p:nvSpPr>
        <p:spPr>
          <a:xfrm>
            <a:off x="5867280" y="1990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28 CuadroTexto"/>
          <p:cNvSpPr/>
          <p:nvPr/>
        </p:nvSpPr>
        <p:spPr>
          <a:xfrm>
            <a:off x="7380360" y="3471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29 CuadroTexto"/>
          <p:cNvSpPr/>
          <p:nvPr/>
        </p:nvSpPr>
        <p:spPr>
          <a:xfrm>
            <a:off x="7451640" y="44290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35:43Z</dcterms:created>
  <dc:creator>Carlos Martin</dc:creator>
  <dc:description/>
  <dc:language>en-US</dc:language>
  <cp:lastModifiedBy>Carlos Martin</cp:lastModifiedBy>
  <dcterms:modified xsi:type="dcterms:W3CDTF">2011-06-21T12:36:23Z</dcterms:modified>
  <cp:revision>8</cp:revision>
  <dc:subject/>
  <dc:title>Presentación de PowerPoint</dc:title>
</cp:coreProperties>
</file>